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notesSlide2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_rels/notesSlide79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5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2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24.png" ContentType="image/png"/>
  <Override PartName="/ppt/media/image23.jpeg" ContentType="image/jpeg"/>
  <Override PartName="/ppt/media/image21.wmf" ContentType="image/x-wmf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9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25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  <p:sldId id="302" r:id="rId56"/>
    <p:sldId id="303" r:id="rId57"/>
    <p:sldId id="304" r:id="rId58"/>
    <p:sldId id="305" r:id="rId59"/>
    <p:sldId id="306" r:id="rId60"/>
    <p:sldId id="307" r:id="rId61"/>
    <p:sldId id="308" r:id="rId62"/>
    <p:sldId id="309" r:id="rId63"/>
    <p:sldId id="310" r:id="rId64"/>
    <p:sldId id="311" r:id="rId65"/>
    <p:sldId id="312" r:id="rId66"/>
    <p:sldId id="313" r:id="rId67"/>
    <p:sldId id="314" r:id="rId68"/>
    <p:sldId id="315" r:id="rId69"/>
    <p:sldId id="316" r:id="rId70"/>
    <p:sldId id="317" r:id="rId71"/>
    <p:sldId id="318" r:id="rId72"/>
    <p:sldId id="319" r:id="rId73"/>
    <p:sldId id="320" r:id="rId74"/>
    <p:sldId id="321" r:id="rId75"/>
    <p:sldId id="322" r:id="rId76"/>
    <p:sldId id="323" r:id="rId77"/>
    <p:sldId id="324" r:id="rId78"/>
    <p:sldId id="325" r:id="rId79"/>
    <p:sldId id="326" r:id="rId80"/>
    <p:sldId id="327" r:id="rId81"/>
    <p:sldId id="328" r:id="rId82"/>
    <p:sldId id="329" r:id="rId83"/>
    <p:sldId id="330" r:id="rId84"/>
    <p:sldId id="331" r:id="rId85"/>
    <p:sldId id="332" r:id="rId86"/>
    <p:sldId id="333" r:id="rId87"/>
    <p:sldId id="334" r:id="rId88"/>
    <p:sldId id="335" r:id="rId89"/>
    <p:sldId id="336" r:id="rId90"/>
    <p:sldId id="337" r:id="rId9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slide" Target="slides/slide47.xml"/><Relationship Id="rId57" Type="http://schemas.openxmlformats.org/officeDocument/2006/relationships/slide" Target="slides/slide48.xml"/><Relationship Id="rId58" Type="http://schemas.openxmlformats.org/officeDocument/2006/relationships/slide" Target="slides/slide49.xml"/><Relationship Id="rId59" Type="http://schemas.openxmlformats.org/officeDocument/2006/relationships/slide" Target="slides/slide50.xml"/><Relationship Id="rId60" Type="http://schemas.openxmlformats.org/officeDocument/2006/relationships/slide" Target="slides/slide51.xml"/><Relationship Id="rId61" Type="http://schemas.openxmlformats.org/officeDocument/2006/relationships/slide" Target="slides/slide52.xml"/><Relationship Id="rId62" Type="http://schemas.openxmlformats.org/officeDocument/2006/relationships/slide" Target="slides/slide53.xml"/><Relationship Id="rId63" Type="http://schemas.openxmlformats.org/officeDocument/2006/relationships/slide" Target="slides/slide54.xml"/><Relationship Id="rId64" Type="http://schemas.openxmlformats.org/officeDocument/2006/relationships/slide" Target="slides/slide55.xml"/><Relationship Id="rId65" Type="http://schemas.openxmlformats.org/officeDocument/2006/relationships/slide" Target="slides/slide56.xml"/><Relationship Id="rId66" Type="http://schemas.openxmlformats.org/officeDocument/2006/relationships/slide" Target="slides/slide57.xml"/><Relationship Id="rId67" Type="http://schemas.openxmlformats.org/officeDocument/2006/relationships/slide" Target="slides/slide58.xml"/><Relationship Id="rId68" Type="http://schemas.openxmlformats.org/officeDocument/2006/relationships/slide" Target="slides/slide59.xml"/><Relationship Id="rId69" Type="http://schemas.openxmlformats.org/officeDocument/2006/relationships/slide" Target="slides/slide60.xml"/><Relationship Id="rId70" Type="http://schemas.openxmlformats.org/officeDocument/2006/relationships/slide" Target="slides/slide61.xml"/><Relationship Id="rId71" Type="http://schemas.openxmlformats.org/officeDocument/2006/relationships/slide" Target="slides/slide62.xml"/><Relationship Id="rId72" Type="http://schemas.openxmlformats.org/officeDocument/2006/relationships/slide" Target="slides/slide63.xml"/><Relationship Id="rId73" Type="http://schemas.openxmlformats.org/officeDocument/2006/relationships/slide" Target="slides/slide64.xml"/><Relationship Id="rId74" Type="http://schemas.openxmlformats.org/officeDocument/2006/relationships/slide" Target="slides/slide65.xml"/><Relationship Id="rId75" Type="http://schemas.openxmlformats.org/officeDocument/2006/relationships/slide" Target="slides/slide66.xml"/><Relationship Id="rId76" Type="http://schemas.openxmlformats.org/officeDocument/2006/relationships/slide" Target="slides/slide67.xml"/><Relationship Id="rId77" Type="http://schemas.openxmlformats.org/officeDocument/2006/relationships/slide" Target="slides/slide68.xml"/><Relationship Id="rId78" Type="http://schemas.openxmlformats.org/officeDocument/2006/relationships/slide" Target="slides/slide69.xml"/><Relationship Id="rId79" Type="http://schemas.openxmlformats.org/officeDocument/2006/relationships/slide" Target="slides/slide70.xml"/><Relationship Id="rId80" Type="http://schemas.openxmlformats.org/officeDocument/2006/relationships/slide" Target="slides/slide71.xml"/><Relationship Id="rId81" Type="http://schemas.openxmlformats.org/officeDocument/2006/relationships/slide" Target="slides/slide72.xml"/><Relationship Id="rId82" Type="http://schemas.openxmlformats.org/officeDocument/2006/relationships/slide" Target="slides/slide73.xml"/><Relationship Id="rId83" Type="http://schemas.openxmlformats.org/officeDocument/2006/relationships/slide" Target="slides/slide74.xml"/><Relationship Id="rId84" Type="http://schemas.openxmlformats.org/officeDocument/2006/relationships/slide" Target="slides/slide75.xml"/><Relationship Id="rId85" Type="http://schemas.openxmlformats.org/officeDocument/2006/relationships/slide" Target="slides/slide76.xml"/><Relationship Id="rId86" Type="http://schemas.openxmlformats.org/officeDocument/2006/relationships/slide" Target="slides/slide77.xml"/><Relationship Id="rId87" Type="http://schemas.openxmlformats.org/officeDocument/2006/relationships/slide" Target="slides/slide78.xml"/><Relationship Id="rId88" Type="http://schemas.openxmlformats.org/officeDocument/2006/relationships/slide" Target="slides/slide79.xml"/><Relationship Id="rId89" Type="http://schemas.openxmlformats.org/officeDocument/2006/relationships/slide" Target="slides/slide80.xml"/><Relationship Id="rId90" Type="http://schemas.openxmlformats.org/officeDocument/2006/relationships/slide" Target="slides/slide81.xml"/><Relationship Id="rId91" Type="http://schemas.openxmlformats.org/officeDocument/2006/relationships/slide" Target="slides/slide82.xml"/><Relationship Id="rId9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52360" y="691920"/>
            <a:ext cx="4553280" cy="3416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sted objectives in bo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 for turn and talk in your lesson plans…build them in.  Use in reading/writing/problem-solving/discussions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st to five for how motivated your students a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6DB2D-E314-4132-B8A6-76FADFF1CE6D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E03-9107-4046-9A60-2D2ADE137F0C}" type="slidenum">
              <a:rPr b="0" lang="en-US" sz="2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C1D57-A68B-4C03-825A-06D7CFBE8F8B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23A9A-0113-4A7A-A5EF-33A22225B3EC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F566D-BDE9-4A98-8DE9-340E141E2C7A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4CF9-0056-4DAB-BBEE-28088580C14E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23A0E-D0A1-4102-B2F9-3C101A950EBD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F3AE4-6A47-46ED-A738-BC84A4A19F31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6756D-505D-43F4-9B55-13BD1949859F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422D2-4E31-40C9-AD28-D0EDE2630C7C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D3A48-E176-4233-827B-EC8FD7CA4E41}" type="slidenum">
              <a:rPr b="0" lang="en-US" sz="28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3280" cy="341604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FD34-3B14-416B-9808-E9D1E571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488B-4AFC-4582-B2CF-F962DEB13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EBCA-975C-4D75-97D7-CC5B56936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4EDE-1162-450D-AFC9-B3B92C6EF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5D430-E6ED-4B54-B010-BEC154445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9D33A-8E2B-40EF-9AEF-0651D2C52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6AAD4-A828-4612-9F99-EC4D294B0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91A6B-C3B0-47FF-9C47-A819A3AAE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82FD-E030-40BD-A9DD-4FCADC20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597E5-2A0B-44B9-B70E-AC100E912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A64D2-7871-41B6-93D0-35807505B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50F0-A60A-4D82-AA85-5ED545120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DB59C-6FF1-46FA-87B7-4A78869AA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45D39-23E2-4EAE-B05D-385D5F274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23FA-5FAE-44F6-A011-C5E356AE0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3DFB9-7264-452B-A078-AA5ECC7ED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7668D-F00A-40B2-864C-046462671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E76AD7-6A71-4EFE-BC5E-582C3F07D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E350A-A9D0-4688-8E4C-479D202FB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1C8B73-3CA7-433D-9C54-895603741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223EF7-F154-416B-8356-A30CC00C7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6FB45-E168-4798-A231-3568120C9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2EE2-7F72-4856-BE3A-F07E47C4B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AC60AF-4903-4566-B193-B885E990E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C093F6-89D8-400B-BFB0-95577DB1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B702F6-7ED0-41EC-B739-7176CC2F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D4C696-1E75-4FFA-9C8D-01346290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AB9E0-53BE-4DCA-967B-D19EF99D8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5D3C0A-1492-4A83-8E62-D7E8853E1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FCFA9E-5877-4491-9AB0-E970F4B01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78CABC-C6D9-4A7C-A4DC-0FE08CF99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D8C81-7BB1-4718-B34C-FC85F8C7F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28E92-F693-4DEF-BC2C-50B14A89B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7E8D-187C-473A-8C5F-C1D4FEC73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00DAA-D5F7-4841-8B1E-B0B544B8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0E8886-B33A-4804-89E0-3A8CC2C3A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D7AF31-6BDB-4D72-B703-E56CA789B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E84A69-943D-41B3-9D56-B243BEBB4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C465D6-B859-46EB-B3DA-83520A061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F8E30E-5978-48F8-A977-007851D1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978F7C-843A-4C55-97AF-CF80DE9F4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81DE40-B5D9-42DD-9D20-0B943E7E9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ADA5F7-C7C8-4C20-A1AE-A57F55F387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824424-4031-4112-A212-D0A009F80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B676-3B68-4279-ADBF-DA07AA4A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2F6188-F5FD-41E7-9677-7C49B5C68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DF10E-D4C6-4B35-9EA3-58D1FD42E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B6D07B-2AE3-49F5-A767-EF47958FE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A91BD1-1785-4AE7-81DA-85075047D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AE7DF7-7E06-47D6-9D9A-F8FD3A45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FF8E1-770C-435C-BA61-2BCD1824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2BB19-62BD-4E2D-93C5-4B92B10E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1F43-7AA2-4050-A4E3-E8959CAA9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44AC4-B858-4A25-825A-B198C8C9F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3CAF31-E75E-4FFB-87B4-BD559CAED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6B22-619D-4529-842E-A01371F18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3D0F9-E404-4D6B-821D-A8C4F386A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66A589-D03A-4E8D-99AB-237AB181E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4526A-6A26-43E9-A1B9-3EDFECC5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A6983A-B6EC-4DED-863A-9A19E0C98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808C4B-1FB0-4F92-A7E1-A08BA15B2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D0426F-0FD0-489A-9C6C-B31D6DC05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67BDDE-8E9F-4D7A-8699-DC2C0DB12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8C73E-9333-440C-94DF-C75666CA7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001202-4027-4DEE-90F5-3ECDE2446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300A7F-CC32-45F2-854C-8815196E3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665-7BF1-4D0E-BF9F-562D67384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6CF4D8-9591-494F-BFDB-F6538090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455079-D302-449F-9513-874479E47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64C145-7D85-4A36-B0D4-FA7ED9ABF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C3F85-C428-4F65-A868-E6949383D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2C0201-C80C-463A-BEBF-D6EB0943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832184-C5A0-41AD-A9A4-7BAA4AB0A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F6B844-34F7-4460-A6F9-D805AA1F1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A2A040-79D3-4567-A929-639DA0CD0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1150920" y="617040"/>
            <a:ext cx="7794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F6682-7D79-4102-9B29-B0B6F44D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627282-1F38-4433-A173-38A523F8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F1B-AD63-40C3-BCBD-69BF93A63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01FF-F174-4DE3-AABA-76F962D2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192028-32B1-4A71-BEF2-63398962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431156-A6C7-4AAF-9B17-DF9E443D6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5023FD-D44C-4295-BD69-620B736AA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09280-F218-402A-91DA-792CACF240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8C28-2600-4546-85A2-8509E0FD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29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1880" y="1828440"/>
            <a:ext cx="868212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3C17-86A3-4796-83A6-6A0CA6DB4F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8E3CF-163D-4B14-B86E-7141B2DE3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5BD0F-D96F-4EC0-A159-B229985E91B5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7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0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140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1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42" name="Group 5"/>
          <p:cNvGrpSpPr/>
          <p:nvPr/>
        </p:nvGrpSpPr>
        <p:grpSpPr>
          <a:xfrm>
            <a:off x="414360" y="2968560"/>
            <a:ext cx="739800" cy="474840"/>
            <a:chOff x="414360" y="2968560"/>
            <a:chExt cx="739800" cy="474840"/>
          </a:xfrm>
        </p:grpSpPr>
        <p:sp>
          <p:nvSpPr>
            <p:cNvPr id="143" name="Rectangle 6"/>
            <p:cNvSpPr/>
            <p:nvPr/>
          </p:nvSpPr>
          <p:spPr>
            <a:xfrm>
              <a:off x="414360" y="2968560"/>
              <a:ext cx="42264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4" name="Rectangle 7"/>
            <p:cNvSpPr/>
            <p:nvPr/>
          </p:nvSpPr>
          <p:spPr>
            <a:xfrm>
              <a:off x="784080" y="2968560"/>
              <a:ext cx="37008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45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B4240-54E5-4199-9719-0C9A5D404023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9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19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9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BCB1A-937F-48A2-95EF-B7287FA4BCB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41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2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3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4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grpSp>
          <p:nvGrpSpPr>
            <p:cNvPr id="245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46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7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826C2-AEB1-4AE4-8884-BC334BCBA56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21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0A253-B574-4BD9-B267-B17B1C692B9A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1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06F13-7D73-426A-A02F-AF6A0EA41C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737560" cy="276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Comic Sans MS"/>
              </a:rPr>
              <a:t>Shedding Light on the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Comic Sans MS"/>
              </a:rPr>
              <a:t>EOG Reading </a:t>
            </a:r>
            <a:br>
              <a:rPr sz="4400"/>
            </a:br>
            <a:r>
              <a:rPr b="1" lang="en-US" sz="4400" spc="-1" strike="noStrike">
                <a:solidFill>
                  <a:srgbClr val="00b050"/>
                </a:solidFill>
                <a:latin typeface="Comic Sans MS"/>
              </a:rPr>
              <a:t>Comprehension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228600" y="5790960"/>
            <a:ext cx="312408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Updated April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Kelli Harre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tebulb"/>
          <p:cNvSpPr/>
          <p:nvPr/>
        </p:nvSpPr>
        <p:spPr>
          <a:xfrm rot="678000">
            <a:off x="6657840" y="2903040"/>
            <a:ext cx="1995480" cy="3605400"/>
          </a:xfrm>
          <a:custGeom>
            <a:avLst/>
            <a:gdLst>
              <a:gd name="textAreaLeft" fmla="*/ 328320 w 1995480"/>
              <a:gd name="textAreaRight" fmla="*/ 1688760 w 1995480"/>
              <a:gd name="textAreaTop" fmla="*/ 365040 h 3605400"/>
              <a:gd name="textAreaBottom" fmla="*/ 1549440 h 3605400"/>
            </a:gdLst>
            <a:ahLst/>
            <a:rect l="textAreaLeft" t="textAreaTop" r="textAreaRight" b="textAreaBottom"/>
            <a:pathLst>
              <a:path w="21600" h="21600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600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ff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41" name=""/>
          <p:cNvGraphicFramePr/>
          <p:nvPr/>
        </p:nvGraphicFramePr>
        <p:xfrm>
          <a:off x="3352680" y="3200400"/>
          <a:ext cx="3200400" cy="2362320"/>
        </p:xfrm>
        <a:graphic>
          <a:graphicData uri="http://schemas.openxmlformats.org/drawingml/2006/table">
            <a:tbl>
              <a:tblPr/>
              <a:tblGrid>
                <a:gridCol w="3200400"/>
              </a:tblGrid>
              <a:tr h="2362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hedule for the 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:30-11:15 Read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1:15-12: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2:45-3:00 Ma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b05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ks student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raphrase the main ide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ad and interpret different gen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termine purposes of selections and portions of sel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FCDD6-D31C-4EF6-B0AA-0A07AE7AA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18728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380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ks student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termine meaning of figurative langua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raw conclusions/Make in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termine mood, tone, sty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0E86C-FD50-43B5-830E-A40EDD4DD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8728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38080" y="198072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ks student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erpret information in referenc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tically analyze and evaluat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xamine authors’ c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ake text-to-text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xt-to-world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DD348-BA20-4EA0-AD32-FDFACA0B4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nges in the Reading Comprehension EOG 2008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cludes 50 items (plus 8 field test items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Organizes by NC Thinking Ski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cludes goals 1-3 of SC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liminates dra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Reduces the use of fram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9B38-3C79-4A84-9609-97E84699B4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Changes in the Reading Comprehension EO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Uses 8-9 sel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Divides content: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0% liter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0% informa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8F0F4-769A-4B87-95F9-ADBBBF61D0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 Grades 3-5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762120" y="1980720"/>
            <a:ext cx="76197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x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terar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60%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non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-2 po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78166-C94E-4378-BC76-B9E242FBC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 Grades 3-5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62120" y="1828440"/>
            <a:ext cx="7619760" cy="455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xt Typ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formational    4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2 cont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consumer/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1 Field Test Pa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A572D-4B12-4288-9DC5-2FAFF6B712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no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or 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excep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questions are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urpose setting statement are printed in plain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st selections are printed in familiar two column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158E4-F0AC-4FA9-8FD0-F23AC78AE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294920" y="1066320"/>
            <a:ext cx="7061400" cy="5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838080" y="1676160"/>
            <a:ext cx="73915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em lines are numbered in standard poem numbering (every five lines) if a question refers to lin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oem lines quoted in questions are indicated with backward slash mar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or exampl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/Roses  are red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94FA-07FF-4016-BB2D-03F4F83B6C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43000" y="1142640"/>
            <a:ext cx="7137360" cy="51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762120" y="2038320"/>
            <a:ext cx="79754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election paragraphs are numbered if a question refers to a paragraph and the selection is more than four paragraphs lo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39254-8252-4475-8AE7-030E81597C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re you living on the edge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3" name="Content Placeholder 4" descr="goat on the edge.JPG"/>
          <p:cNvPicPr/>
          <p:nvPr/>
        </p:nvPicPr>
        <p:blipFill>
          <a:blip r:embed="rId1"/>
          <a:stretch/>
        </p:blipFill>
        <p:spPr>
          <a:xfrm>
            <a:off x="2325600" y="2255760"/>
            <a:ext cx="5486400" cy="3638520"/>
          </a:xfrm>
          <a:prstGeom prst="rect">
            <a:avLst/>
          </a:prstGeom>
          <a:ln w="0">
            <a:noFill/>
          </a:ln>
        </p:spPr>
      </p:pic>
      <p:sp>
        <p:nvSpPr>
          <p:cNvPr id="344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223C0-3E7C-4AF2-A9CA-F369794075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1143000" y="1219320"/>
            <a:ext cx="7137360" cy="514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762120" y="1828800"/>
            <a:ext cx="7975440" cy="48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ogies with the colon (5-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ich of the following relationships is most similar to the relationship below?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fruit : ap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    car : b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B    cookie : ice cre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C    tree : 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D    vegetable : c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3BBD-4436-470A-A143-B434D79168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AA013-913A-48D8-91FB-B5EA699BB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1" name=""/>
          <p:cNvGraphicFramePr/>
          <p:nvPr/>
        </p:nvGraphicFramePr>
        <p:xfrm>
          <a:off x="304920" y="838080"/>
          <a:ext cx="8229600" cy="3962520"/>
        </p:xfrm>
        <a:graphic>
          <a:graphicData uri="http://schemas.openxmlformats.org/drawingml/2006/table">
            <a:tbl>
              <a:tblPr/>
              <a:tblGrid>
                <a:gridCol w="8229600"/>
              </a:tblGrid>
              <a:tr h="3962520">
                <a:tc>
                  <a:txBody>
                    <a:bodyPr lIns="114480" rIns="11448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CS Language Arts Pacing Guid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1 Use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metacognitive strategie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to comprehend text and to clarify meaning of vocabulary (reread the text, consult other sources, ask for help)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2 Interact w/ text before, during and after reading, listening and viewing by:  setting a purpose using prior knowledge and text information,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making prediction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and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making connections with previous experiences, information and ideas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4 Identify and interprets elements of fiction and nonfiction and support by referencing the text to determine the:  plot and main ideas/supporting detail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2.06 </a:t>
                      </a:r>
                      <a:r>
                        <a:rPr b="1" lang="en-US" sz="16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Summarize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major points from fiction and nonfiction text(s) to clarify and retain information and ideas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114480" marR="11448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2" name="Rectangle 7"/>
          <p:cNvSpPr/>
          <p:nvPr/>
        </p:nvSpPr>
        <p:spPr>
          <a:xfrm flipV="1" rot="10800000">
            <a:off x="457200" y="4113720"/>
            <a:ext cx="7315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2.09 Listen actively by asking questions and paraphrasing what was said.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North Carolina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Thinking Ski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9907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Know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rgani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pply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nalyz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Gene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ntegr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Evalu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088A1-79A8-47BA-8327-04766E579E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Basic Thinking Skill:  Know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cus on needed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fine the problem/set goals to solv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rmulate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ore and recall information in long term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ist, name, label, recall, identify, match, cho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ABB92-164D-42DA-A367-B22CEED79A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Know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selection, what is the main reaso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selection, which statement is tru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describes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E8BC5-2A11-4A37-B4DB-9D0EF90ED4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Basic Thinking Skill:  Organiz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pari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lassify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de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presen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ategorize, group, classify, compare, contr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33E73-A68A-4904-A32A-1FD896C831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Organiz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ased on the selection, how did … differ from 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 … and … have in comm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heading/detail belongs in the empty box (graphic organizer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main difference between x, y, and z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D86BA-3403-4335-A51D-54A57991B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80FE1-4D53-4F28-A5D4-0F5E4A1011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19" name="Picture 2" descr=""/>
          <p:cNvPicPr/>
          <p:nvPr/>
        </p:nvPicPr>
        <p:blipFill>
          <a:blip r:embed="rId1"/>
          <a:stretch/>
        </p:blipFill>
        <p:spPr>
          <a:xfrm>
            <a:off x="0" y="1066680"/>
            <a:ext cx="9296280" cy="472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60C97-E8FA-4BAD-823A-F49526D2D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1" name="Picture 3" descr="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5171760"/>
          </a:xfrm>
          <a:prstGeom prst="rect">
            <a:avLst/>
          </a:prstGeom>
          <a:ln w="0">
            <a:noFill/>
          </a:ln>
        </p:spPr>
      </p:pic>
      <p:sp>
        <p:nvSpPr>
          <p:cNvPr id="422" name="TextBox 4"/>
          <p:cNvSpPr/>
          <p:nvPr/>
        </p:nvSpPr>
        <p:spPr>
          <a:xfrm>
            <a:off x="152280" y="2286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154A-7843-404C-922F-066CEED0E1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4" name="Picture 2" descr=""/>
          <p:cNvPicPr/>
          <p:nvPr/>
        </p:nvPicPr>
        <p:blipFill>
          <a:blip r:embed="rId1"/>
          <a:stretch/>
        </p:blipFill>
        <p:spPr>
          <a:xfrm>
            <a:off x="0" y="476280"/>
            <a:ext cx="868680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 you feel you are stuck in a hole and can’t get ou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6" name="Content Placeholder 4" descr="horse in hole.JPG"/>
          <p:cNvPicPr/>
          <p:nvPr/>
        </p:nvPicPr>
        <p:blipFill>
          <a:blip r:embed="rId1"/>
          <a:stretch/>
        </p:blipFill>
        <p:spPr>
          <a:xfrm>
            <a:off x="3459240" y="2017800"/>
            <a:ext cx="3219480" cy="411480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A78B3-92D7-4DF2-81A5-042CBA7B67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1B491-2DA9-4233-84DC-51E9A4673C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6" name="Picture 2" descr=""/>
          <p:cNvPicPr/>
          <p:nvPr/>
        </p:nvPicPr>
        <p:blipFill>
          <a:blip r:embed="rId1"/>
          <a:stretch/>
        </p:blipFill>
        <p:spPr>
          <a:xfrm>
            <a:off x="71280" y="561960"/>
            <a:ext cx="9001440" cy="57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9BEDA-DCD7-4E24-82B0-E78EB33FB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8" name="Picture 2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F949-4104-43AC-ADBA-838E6B9F9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0" name="Picture 2" descr=""/>
          <p:cNvPicPr/>
          <p:nvPr/>
        </p:nvPicPr>
        <p:blipFill>
          <a:blip r:embed="rId1"/>
          <a:stretch/>
        </p:blipFill>
        <p:spPr>
          <a:xfrm>
            <a:off x="0" y="990720"/>
            <a:ext cx="9026640" cy="5781600"/>
          </a:xfrm>
          <a:prstGeom prst="rect">
            <a:avLst/>
          </a:prstGeom>
          <a:ln w="0">
            <a:noFill/>
          </a:ln>
        </p:spPr>
      </p:pic>
      <p:sp>
        <p:nvSpPr>
          <p:cNvPr id="431" name="TextBox 3"/>
          <p:cNvSpPr/>
          <p:nvPr/>
        </p:nvSpPr>
        <p:spPr>
          <a:xfrm>
            <a:off x="152280" y="3049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BF074-055C-4BB1-A7A4-0B7F22EB8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3" name="Picture 2" descr=""/>
          <p:cNvPicPr/>
          <p:nvPr/>
        </p:nvPicPr>
        <p:blipFill>
          <a:blip r:embed="rId1"/>
          <a:stretch/>
        </p:blipFill>
        <p:spPr>
          <a:xfrm>
            <a:off x="0" y="380880"/>
            <a:ext cx="8943840" cy="641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73A05-E3ED-4D6D-955A-5A3184B13B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2033640" y="385920"/>
            <a:ext cx="5076720" cy="6086160"/>
          </a:xfrm>
          <a:prstGeom prst="rect">
            <a:avLst/>
          </a:prstGeom>
          <a:ln w="0">
            <a:noFill/>
          </a:ln>
        </p:spPr>
      </p:pic>
      <p:sp>
        <p:nvSpPr>
          <p:cNvPr id="436" name="TextBox 4"/>
          <p:cNvSpPr/>
          <p:nvPr/>
        </p:nvSpPr>
        <p:spPr>
          <a:xfrm>
            <a:off x="228600" y="152280"/>
            <a:ext cx="1371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rade 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E82D9-5819-45EB-BDB5-BF4DEBB648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38" name="Picture 2" descr=""/>
          <p:cNvPicPr/>
          <p:nvPr/>
        </p:nvPicPr>
        <p:blipFill>
          <a:blip r:embed="rId1"/>
          <a:stretch/>
        </p:blipFill>
        <p:spPr>
          <a:xfrm>
            <a:off x="0" y="1090440"/>
            <a:ext cx="8686800" cy="46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Slide Number Placeholder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46C08-549A-4E9C-A46E-9AEE05FA1C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952560"/>
            <a:ext cx="91440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Mid-Level Thinking Skill:  Apply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emonstrate prior knowledge in a new sit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ring together information to solve a probl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Use generalizations to solve probl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pply, make, show, record, construct, demonstrate, illust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5606-8CEF-4B65-8D93-F0BAC2521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pply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914040" y="2017800"/>
            <a:ext cx="80406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o would most likely need (character’s) inven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id x hap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which part of the selection does the author give information about what happened before the selection beg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ccording to the graph, which x has the most 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12DB3-CC07-4A05-8E10-933D33F40F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Mid-Level Thinking Skill:  Analyz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y parts and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y attributes, components,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y relationships and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dentify the main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ioritize key ev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utline, diagram, differentiate, analy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383D-0FE1-4561-9D47-C2089C4F4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s your load to heavy to bear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49" name="Content Placeholder 4" descr="mommy overload.JPG"/>
          <p:cNvPicPr/>
          <p:nvPr/>
        </p:nvPicPr>
        <p:blipFill>
          <a:blip r:embed="rId1"/>
          <a:stretch/>
        </p:blipFill>
        <p:spPr>
          <a:xfrm>
            <a:off x="2449440" y="2322360"/>
            <a:ext cx="5238720" cy="3505320"/>
          </a:xfrm>
          <a:prstGeom prst="rect">
            <a:avLst/>
          </a:prstGeom>
          <a:ln w="0">
            <a:noFill/>
          </a:ln>
        </p:spPr>
      </p:pic>
      <p:sp>
        <p:nvSpPr>
          <p:cNvPr id="350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E7A5F-83F7-4964-B2E7-A834C7000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Analyz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1143000" y="2017800"/>
            <a:ext cx="781200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is story meant to expl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id the author most likely begin by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e first paragraph states “..”.  What does this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purpose of using (word 1) and (word 2) in the s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lesson should (character) have learned from his experi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E81FA-064D-4DDC-9A8A-AD95C687A6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Mid-Level Thinking Skill:  Genera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oducing new information, meaning,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fer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redic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laborat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clude, predict, infer, explain, elabor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20766-3C20-460A-8F64-62846E160B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Genera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ow does (character) most likely feel when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will most likely happen nex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ith which statement would (character) most likely agre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is the main purpose of this po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8AFE-9D3B-4B51-A68E-31E1951A45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Upper Level Thinking Skill:  Integra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necting and combining 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mmariz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structuring (synthesizing) – incorporate new information into existing stru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mbine, summarize, design, imagine, generalize, synthe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2063-2D2C-4D3B-9822-A0FC425AF4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Integra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n paragraph x, why is the (horse) compared to a “(leaping flame)”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of the following best describes x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would be the best fit if added to the sele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7225-1E48-4EDA-91B6-215E2ABD5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Upper Level Thinking Skill:  Evaluatin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ssess reasonableness and quality of id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stablish criteria for judg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ifying accuracy of clai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Judge, evaluate, rate, verify, assess, define crit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0FFC-FCA4-467F-9A1D-1CE5B60FCB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Evaluating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y does the author compare (x) to (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ich is the best clue that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can a reader tell about (character) from her…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4B42-060E-4E94-9236-AC01EF0E8D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Question Sor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F8627-C15E-48A6-B626-29F8573D9B1A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333399"/>
                </a:solidFill>
                <a:latin typeface="Brush Script MT"/>
              </a:rPr>
              <a:t>Comprehension Challenge</a:t>
            </a:r>
            <a:endParaRPr b="0" lang="en-US" sz="7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14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5DF7D-C699-47EB-B101-BE908A9CAD90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4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Brush Script MT"/>
              </a:rPr>
              <a:t>Your Turn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the EOG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5F4E-9B04-4E5E-8070-7414327D04DE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o you need more “coverage” (for your class)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352" name="Content Placeholder 4" descr="need more coverage.JPG"/>
          <p:cNvPicPr/>
          <p:nvPr/>
        </p:nvPicPr>
        <p:blipFill>
          <a:blip r:embed="rId1"/>
          <a:stretch/>
        </p:blipFill>
        <p:spPr>
          <a:xfrm>
            <a:off x="1892160" y="2017800"/>
            <a:ext cx="6353280" cy="411480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530F6-9416-4FC7-8497-9EB9A6950D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Every Pupil Respons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1" name=""/>
          <p:cNvSpPr txBox="1"/>
          <p:nvPr/>
        </p:nvSpPr>
        <p:spPr>
          <a:xfrm>
            <a:off x="380520" y="1600200"/>
            <a:ext cx="6172200" cy="46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urn and Tal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st of F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gnal C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Yes/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ue/Fal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/B/C/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PS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2" name="Picture 4" descr=""/>
          <p:cNvPicPr/>
          <p:nvPr/>
        </p:nvPicPr>
        <p:blipFill>
          <a:blip r:embed="rId1"/>
          <a:stretch/>
        </p:blipFill>
        <p:spPr>
          <a:xfrm>
            <a:off x="4038480" y="2057400"/>
            <a:ext cx="4457880" cy="31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memb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4" name="Slide Number Placeholder 4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5D7B-9625-4BF5-A31A-C754DF9107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2057040" y="182880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cannot just give students questions and expect them to develop critical thinking.  We must MODEL expected thinking and then provide multiple opportunities for guided and independent practi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Slide Number Placeholder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A927A-F892-48A4-B040-63D4A89F7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87" name="Object 2"/>
          <p:cNvGraphicFramePr/>
          <p:nvPr/>
        </p:nvGraphicFramePr>
        <p:xfrm>
          <a:off x="2050920" y="0"/>
          <a:ext cx="5972400" cy="780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0"/>
                    <a:ext cx="5972400" cy="780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1182600" y="2017800"/>
            <a:ext cx="7269120" cy="395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hy is this poem written so that the lines curv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.  To show the word seal begins with an “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.  To describe how a seal catches fi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.  To show the movement of a s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.  To explain how the author feels about se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Category:  Critical 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nking Skill:  Analyz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Key:  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46B96-4C47-4C88-B382-4C88634383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is the effect of the short lines in the poe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.  They help emphasize the seal’s quick a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.  They help the reader understand why seals dive and swer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.  They create a rhyming patter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.  They add humor to the po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ategory:  Critical 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bjective (G6) 4.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hinking Skill:  Analyz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iculty Level:  H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Key: 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59F19-207F-4D70-B2F3-2C8A6CA938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5.  Lines 1 through 15 appeal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most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to which sen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.  s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.  sme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.  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D.  tas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ategory:  Critical S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Objective (G6):  5.0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hinking Skill:  Organiz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ifficulty Level:  Eas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Key:  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49596-5E20-4609-88C2-8EC039AE5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how me students who c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write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(answers), and I’ll show you students who can </a:t>
            </a:r>
            <a:r>
              <a:rPr b="0" lang="en-US" sz="5400" spc="-1" strike="noStrike" u="sng">
                <a:solidFill>
                  <a:srgbClr val="000000"/>
                </a:solidFill>
                <a:uFillTx/>
                <a:latin typeface="Arial"/>
              </a:rPr>
              <a:t>pick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(answers).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Roger Fa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9B58B-26E0-4ED0-B278-7C9D0E41B3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Comic Sans MS"/>
              </a:rPr>
              <a:t>Preparing Students For the Reading EOG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Build Reading Stami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odel Strategies with Practice I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questions fir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Underline key facts/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nalyze questions (Q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liminating incorrect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ecking their answ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Explain How the Test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48823-5C5F-4675-B411-9719E3F2CD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Test Taking Tips</a:t>
            </a: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the title and intro. statement (if any).  Predi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some or all questions to set purpose for read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selection slowly and carefu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read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oss out incorrect answer choi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oose correct answ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ark on your paper, then bub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F621-1DD1-4250-99CC-5444DA6F88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Comic Sans MS"/>
              </a:rPr>
              <a:t>More Testing Ti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0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you are unsure of an answer, make your best guess.  Circle it to revisit l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tay on the right line when bubbl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eck your answers with any extra time.  Only change answers if 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If nervous, close eyes, breath and try to rela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20B31-F2B3-4E15-A3A7-D7DBE18822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2286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Emphasizes compreh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ssesses vocabulary through application and understanding of terms in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quires reading different types of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28F2-FD40-40A7-9210-8C74CEB89F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680" y="380880"/>
            <a:ext cx="7878960" cy="1532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QAR: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Where Do You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Find the Answer?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4800240" y="1980720"/>
            <a:ext cx="3809880" cy="461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My H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uthor and 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to think about what you already know and what the author is talking about in the text to find the answer.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On My 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have to think about what you know, applying prior knowledge, to answer the question. The answer is not in the tex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192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0520" y="1981080"/>
            <a:ext cx="3886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In the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Right Ther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can put your finger right on the answer in the text. The question often uses the same words as the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ink and Search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You need to look in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different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parts of the text to find the ans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6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1C31F-7D25-4EA3-AA32-72BF38F088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A6BB5-113E-4659-BDCC-5759A496A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id You Know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students do not understand 5% of the words, they will have difficulty comprehending the text if they comprehend at all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50920" y="1142640"/>
            <a:ext cx="779472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OG Vocabulary: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Speaking the Same Language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711360" y="2057400"/>
            <a:ext cx="7264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amples of EOG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 is the effect of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rack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Bold pr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btitles/ subhea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7098F-9FE2-4472-BEFC-26B287565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D4F-AC3A-491B-A3EB-8491FBD042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533160" y="304560"/>
            <a:ext cx="792468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election describes ____.  What does this word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ragraph __, the auth0r states “….”.  What does the word ____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ntence in context)  In which of the following sentences is the word ____ used the same way as in the sentence abov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sentence in context)  Which of the following definitions of _____ applies to this sentenc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selection, which word means the same as “….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paragraph x, why are some words written in parenthesi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nstructional Strategies to teach the EOG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Use EOG vocabulary in everyday instruc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ntroduce the vocabulary in small meaningful chunk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each the vocabulary within the context of your Reading instructional pla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3C37B-0436-4140-96BB-BE79F8D012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29" name="Content Placeholder 4" descr="Southmont Pics 3rd grade (2).jpg"/>
          <p:cNvPicPr/>
          <p:nvPr/>
        </p:nvPicPr>
        <p:blipFill>
          <a:blip r:embed="rId1"/>
          <a:stretch/>
        </p:blipFill>
        <p:spPr>
          <a:xfrm>
            <a:off x="0" y="0"/>
            <a:ext cx="9126360" cy="6858000"/>
          </a:xfrm>
          <a:prstGeom prst="rect">
            <a:avLst/>
          </a:prstGeom>
          <a:ln w="0">
            <a:noFill/>
          </a:ln>
        </p:spPr>
      </p:pic>
      <p:sp>
        <p:nvSpPr>
          <p:cNvPr id="530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15B4-B354-42A2-8FEC-2ED45E810A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og word wal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32" name="Content Placeholder 4" descr="Southmont Pics 3rd grade (1).jpg"/>
          <p:cNvPicPr/>
          <p:nvPr/>
        </p:nvPicPr>
        <p:blipFill>
          <a:blip r:embed="rId1"/>
          <a:stretch/>
        </p:blipFill>
        <p:spPr>
          <a:xfrm>
            <a:off x="152280" y="152280"/>
            <a:ext cx="9296640" cy="6985080"/>
          </a:xfrm>
          <a:prstGeom prst="rect">
            <a:avLst/>
          </a:prstGeom>
          <a:ln w="0">
            <a:noFill/>
          </a:ln>
        </p:spPr>
      </p:pic>
      <p:sp>
        <p:nvSpPr>
          <p:cNvPr id="533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FD71-F29B-4F76-B714-5E9CAF9A2D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1066680" y="76176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nstructional Strategies to teach the EOG Vocabul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8380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eate an EOG Word Wal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Review vocabula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ord s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’m thinking of a word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Games such as  Bingo, Go Fish, Memory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75FD5-6231-4768-909F-FAA5B4F72F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esting Vocabulary Challeng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EF9DF-D4EA-4490-8912-66FD3FA90FD4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Review Activities and Gam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0" y="1752480"/>
            <a:ext cx="9144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       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ff00"/>
                </a:solidFill>
                <a:latin typeface="Tahoma"/>
              </a:rPr>
              <a:t>Reading Jeopar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Comparing Terms        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esting Vocabulary Challe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3300"/>
                </a:solidFill>
                <a:latin typeface="Impact"/>
              </a:rPr>
              <a:t>I Have…Who 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8000"/>
                </a:solidFill>
                <a:latin typeface="Haettenschweiler"/>
              </a:rPr>
              <a:t>Jigsaw Bo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cc0066"/>
                </a:solidFill>
                <a:latin typeface="Courier New"/>
              </a:rPr>
              <a:t>Vocabulary Knowledge Rating/So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	</a:t>
            </a:r>
            <a:r>
              <a:rPr b="1" lang="en-US" sz="3200" spc="-1" strike="noStrike">
                <a:solidFill>
                  <a:srgbClr val="003300"/>
                </a:solidFill>
                <a:latin typeface="Arial Unicode MS"/>
              </a:rPr>
              <a:t>Draw Me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 </a:t>
            </a:r>
            <a:r>
              <a:rPr b="0" lang="en-US" sz="3200" spc="-1" strike="noStrike">
                <a:solidFill>
                  <a:srgbClr val="ff6600"/>
                </a:solidFill>
                <a:latin typeface="Tahoma"/>
              </a:rPr>
              <a:t>Vocabulary Chara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	</a:t>
            </a:r>
            <a:r>
              <a:rPr b="0" lang="en-US" sz="3200" spc="-1" strike="noStrike">
                <a:solidFill>
                  <a:srgbClr val="1c1c1c"/>
                </a:solidFill>
                <a:latin typeface="Comic Sans MS"/>
              </a:rPr>
              <a:t>Name That Category</a:t>
            </a:r>
            <a:r>
              <a:rPr b="0" lang="en-US" sz="3200" spc="-1" strike="noStrike">
                <a:solidFill>
                  <a:srgbClr val="000000"/>
                </a:solidFill>
                <a:latin typeface="Lucida Sans Unicode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0066"/>
                </a:solidFill>
                <a:latin typeface="Comic Sans MS"/>
              </a:rPr>
              <a:t>Talk a Mile a Minute</a:t>
            </a:r>
            <a:r>
              <a:rPr b="1" lang="en-US" sz="32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1" lang="en-US" sz="3200" spc="-1" strike="noStrike">
                <a:solidFill>
                  <a:srgbClr val="00ccff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ccff"/>
                </a:solidFill>
                <a:latin typeface="Verdana"/>
              </a:rPr>
              <a:t> Triangle Triv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200" spc="-1" strike="noStrike">
                <a:solidFill>
                  <a:srgbClr val="cc9900"/>
                </a:solidFill>
                <a:latin typeface="Georgia"/>
              </a:rPr>
              <a:t>Card Gam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Bingo        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Wheel of Fortu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zano and oth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49AE9-3994-487B-86BB-ACF22DEF73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 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3049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ngages students in complex, comprehensive reading and thin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olves critical analysis and eval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Measures higher order thinking skil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0AFA-6D5D-4519-BAB1-EFF54D2BE6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Smart Board 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Structure Tic Tac T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nect Fo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23483-6E12-4538-B220-BE189FC2E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Title 1" descr=""/>
          <p:cNvPicPr/>
          <p:nvPr/>
        </p:nvPicPr>
        <p:blipFill>
          <a:blip r:embed="rId1"/>
          <a:stretch/>
        </p:blipFill>
        <p:spPr>
          <a:xfrm>
            <a:off x="55440" y="1311120"/>
            <a:ext cx="8253360" cy="1438560"/>
          </a:xfrm>
          <a:prstGeom prst="rect">
            <a:avLst/>
          </a:prstGeom>
          <a:ln w="0">
            <a:noFill/>
          </a:ln>
        </p:spPr>
      </p:pic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530280" y="270504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27B1C-0B5D-4B55-9B53-5E31FEC00BF2}" type="slidenum">
              <a:rPr b="0" lang="en-US" sz="1200" spc="-1" strike="noStrike">
                <a:solidFill>
                  <a:srgbClr val="d1eaee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497D-71A5-4F14-904A-C1D127E571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lk a Mile a Minu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1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2895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5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5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5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09E3F-BFA9-41B0-9D9B-D0C8E6FAB6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lk a Mile a Minu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5" name="Rectangle 3"/>
          <p:cNvSpPr/>
          <p:nvPr/>
        </p:nvSpPr>
        <p:spPr>
          <a:xfrm>
            <a:off x="2743200" y="1981080"/>
            <a:ext cx="4038480" cy="45720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3048120" y="213372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hea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ss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of cont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ld pr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7E8E-A16B-4DDF-BA21-EA5EED8691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lk a Mile a Minu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9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2743200" y="205740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phic orga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nn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r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qu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mp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5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02397-B1BE-4556-B01B-4C6A40362F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alk a Mile a Minut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3" name="Rectangle 3"/>
          <p:cNvSpPr/>
          <p:nvPr/>
        </p:nvSpPr>
        <p:spPr>
          <a:xfrm>
            <a:off x="2743200" y="1981080"/>
            <a:ext cx="3657600" cy="411480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7760" y="2133720"/>
            <a:ext cx="33526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nific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CCEBE-E90E-4612-86A1-283BA138E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Arial"/>
              </a:rPr>
              <a:t>Triangle Trivia – Comprehension Strategie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67" name="Group 16"/>
          <p:cNvGrpSpPr/>
          <p:nvPr/>
        </p:nvGrpSpPr>
        <p:grpSpPr>
          <a:xfrm>
            <a:off x="1143000" y="1523880"/>
            <a:ext cx="6781680" cy="4985640"/>
            <a:chOff x="1143000" y="1523880"/>
            <a:chExt cx="6781680" cy="4985640"/>
          </a:xfrm>
        </p:grpSpPr>
        <p:sp>
          <p:nvSpPr>
            <p:cNvPr id="568" name="AutoShape 4"/>
            <p:cNvSpPr/>
            <p:nvPr/>
          </p:nvSpPr>
          <p:spPr>
            <a:xfrm>
              <a:off x="1143000" y="152388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69" name="Line 5"/>
            <p:cNvSpPr/>
            <p:nvPr/>
          </p:nvSpPr>
          <p:spPr>
            <a:xfrm>
              <a:off x="2209680" y="4952880"/>
              <a:ext cx="4648320" cy="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0" name="Line 6"/>
            <p:cNvSpPr/>
            <p:nvPr/>
          </p:nvSpPr>
          <p:spPr>
            <a:xfrm>
              <a:off x="3200400" y="3429000"/>
              <a:ext cx="2666880" cy="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Line 7"/>
            <p:cNvSpPr/>
            <p:nvPr/>
          </p:nvSpPr>
          <p:spPr>
            <a:xfrm>
              <a:off x="4572000" y="3429000"/>
              <a:ext cx="0" cy="152388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Line 8"/>
            <p:cNvSpPr/>
            <p:nvPr/>
          </p:nvSpPr>
          <p:spPr>
            <a:xfrm>
              <a:off x="3429000" y="4952880"/>
              <a:ext cx="0" cy="152424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3" name="Line 9"/>
            <p:cNvSpPr/>
            <p:nvPr/>
          </p:nvSpPr>
          <p:spPr>
            <a:xfrm>
              <a:off x="5638680" y="4952880"/>
              <a:ext cx="0" cy="1524240"/>
            </a:xfrm>
            <a:prstGeom prst="line">
              <a:avLst/>
            </a:prstGeom>
            <a:ln w="9360">
              <a:solidFill>
                <a:srgbClr val="00e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4" name="Text Box 10"/>
            <p:cNvSpPr/>
            <p:nvPr/>
          </p:nvSpPr>
          <p:spPr>
            <a:xfrm>
              <a:off x="3886200" y="3048120"/>
              <a:ext cx="1447920" cy="36828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00 Points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5" name="Text Box 11"/>
            <p:cNvSpPr/>
            <p:nvPr/>
          </p:nvSpPr>
          <p:spPr>
            <a:xfrm>
              <a:off x="6095880" y="617220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Text Box 12"/>
            <p:cNvSpPr/>
            <p:nvPr/>
          </p:nvSpPr>
          <p:spPr>
            <a:xfrm>
              <a:off x="4952880" y="457200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Text Box 13"/>
            <p:cNvSpPr/>
            <p:nvPr/>
          </p:nvSpPr>
          <p:spPr>
            <a:xfrm>
              <a:off x="2819520" y="457200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8" name="Text Box 14"/>
            <p:cNvSpPr/>
            <p:nvPr/>
          </p:nvSpPr>
          <p:spPr>
            <a:xfrm>
              <a:off x="1828800" y="617220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9" name="Text Box 15"/>
            <p:cNvSpPr/>
            <p:nvPr/>
          </p:nvSpPr>
          <p:spPr>
            <a:xfrm>
              <a:off x="3886200" y="617220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85ffde"/>
                </a:gs>
                <a:gs pos="100000">
                  <a:srgbClr val="dcfff5"/>
                </a:gs>
              </a:gsLst>
              <a:lin ang="16200000"/>
            </a:gradFill>
            <a:ln w="9360">
              <a:solidFill>
                <a:srgbClr val="00e4a7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0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ummariz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1" name="Text Box 18"/>
          <p:cNvSpPr/>
          <p:nvPr/>
        </p:nvSpPr>
        <p:spPr>
          <a:xfrm>
            <a:off x="2057400" y="5334120"/>
            <a:ext cx="1447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in Ide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Inferenc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3" name="Text Box 21"/>
          <p:cNvSpPr/>
          <p:nvPr/>
        </p:nvSpPr>
        <p:spPr>
          <a:xfrm>
            <a:off x="3657600" y="525780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Ask Ques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464832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Visualiz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21"/>
          <p:cNvSpPr/>
          <p:nvPr/>
        </p:nvSpPr>
        <p:spPr>
          <a:xfrm>
            <a:off x="5562720" y="533412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ke Connec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8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C57FC-F08E-4860-AFF7-FE08DC3EEB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angle Trivia – Recipe Term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588" name="Group 16"/>
          <p:cNvGrpSpPr/>
          <p:nvPr/>
        </p:nvGrpSpPr>
        <p:grpSpPr>
          <a:xfrm>
            <a:off x="1143000" y="1447920"/>
            <a:ext cx="6781680" cy="4985640"/>
            <a:chOff x="1143000" y="1447920"/>
            <a:chExt cx="6781680" cy="4985640"/>
          </a:xfrm>
        </p:grpSpPr>
        <p:sp>
          <p:nvSpPr>
            <p:cNvPr id="589" name="AutoShape 4"/>
            <p:cNvSpPr/>
            <p:nvPr/>
          </p:nvSpPr>
          <p:spPr>
            <a:xfrm>
              <a:off x="1143000" y="144792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0" name="Line 5"/>
            <p:cNvSpPr/>
            <p:nvPr/>
          </p:nvSpPr>
          <p:spPr>
            <a:xfrm>
              <a:off x="2209680" y="4876920"/>
              <a:ext cx="4648320" cy="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1" name="Line 6"/>
            <p:cNvSpPr/>
            <p:nvPr/>
          </p:nvSpPr>
          <p:spPr>
            <a:xfrm>
              <a:off x="3200400" y="3353040"/>
              <a:ext cx="2666880" cy="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2" name="Line 7"/>
            <p:cNvSpPr/>
            <p:nvPr/>
          </p:nvSpPr>
          <p:spPr>
            <a:xfrm>
              <a:off x="4572000" y="3353040"/>
              <a:ext cx="0" cy="152388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3" name="Line 8"/>
            <p:cNvSpPr/>
            <p:nvPr/>
          </p:nvSpPr>
          <p:spPr>
            <a:xfrm>
              <a:off x="3429000" y="4876920"/>
              <a:ext cx="0" cy="152424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4" name="Line 9"/>
            <p:cNvSpPr/>
            <p:nvPr/>
          </p:nvSpPr>
          <p:spPr>
            <a:xfrm>
              <a:off x="5638680" y="4876920"/>
              <a:ext cx="0" cy="1524240"/>
            </a:xfrm>
            <a:prstGeom prst="line">
              <a:avLst/>
            </a:prstGeom>
            <a:ln w="9360">
              <a:solidFill>
                <a:srgbClr val="f9f9f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5" name="Text Box 10"/>
            <p:cNvSpPr/>
            <p:nvPr/>
          </p:nvSpPr>
          <p:spPr>
            <a:xfrm>
              <a:off x="3886200" y="297216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6" name="Text Box 11"/>
            <p:cNvSpPr/>
            <p:nvPr/>
          </p:nvSpPr>
          <p:spPr>
            <a:xfrm>
              <a:off x="609588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7" name="Text Box 12"/>
            <p:cNvSpPr/>
            <p:nvPr/>
          </p:nvSpPr>
          <p:spPr>
            <a:xfrm>
              <a:off x="4952880" y="44960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8" name="Text Box 13"/>
            <p:cNvSpPr/>
            <p:nvPr/>
          </p:nvSpPr>
          <p:spPr>
            <a:xfrm>
              <a:off x="2819520" y="449604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99" name="Text Box 14"/>
            <p:cNvSpPr/>
            <p:nvPr/>
          </p:nvSpPr>
          <p:spPr>
            <a:xfrm>
              <a:off x="182880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00" name="Text Box 15"/>
            <p:cNvSpPr/>
            <p:nvPr/>
          </p:nvSpPr>
          <p:spPr>
            <a:xfrm>
              <a:off x="388620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6200000"/>
            </a:gradFill>
            <a:ln w="9360">
              <a:solidFill>
                <a:srgbClr val="f9f9f9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01" name="Text Box 17"/>
          <p:cNvSpPr/>
          <p:nvPr/>
        </p:nvSpPr>
        <p:spPr>
          <a:xfrm>
            <a:off x="2895480" y="373392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ingredient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bak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utensil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 Box 21"/>
          <p:cNvSpPr/>
          <p:nvPr/>
        </p:nvSpPr>
        <p:spPr>
          <a:xfrm>
            <a:off x="3733920" y="5334120"/>
            <a:ext cx="1752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whip/blend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5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equipmen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directions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5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0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5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0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5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83326-21A9-434D-BB2E-B053F954B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angle Trivia – Text Featur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09" name="Group 16"/>
          <p:cNvGrpSpPr/>
          <p:nvPr/>
        </p:nvGrpSpPr>
        <p:grpSpPr>
          <a:xfrm>
            <a:off x="1143000" y="1447920"/>
            <a:ext cx="6781680" cy="4985640"/>
            <a:chOff x="1143000" y="1447920"/>
            <a:chExt cx="6781680" cy="4985640"/>
          </a:xfrm>
        </p:grpSpPr>
        <p:sp>
          <p:nvSpPr>
            <p:cNvPr id="610" name="AutoShape 4"/>
            <p:cNvSpPr/>
            <p:nvPr/>
          </p:nvSpPr>
          <p:spPr>
            <a:xfrm>
              <a:off x="1143000" y="144792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ffff78"/>
                </a:gs>
                <a:gs pos="100000">
                  <a:srgbClr val="ffffd7">
                    <a:alpha val="49019"/>
                  </a:srgbClr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1" name="Line 5"/>
            <p:cNvSpPr/>
            <p:nvPr/>
          </p:nvSpPr>
          <p:spPr>
            <a:xfrm>
              <a:off x="2209680" y="4876920"/>
              <a:ext cx="4648320" cy="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2" name="Line 6"/>
            <p:cNvSpPr/>
            <p:nvPr/>
          </p:nvSpPr>
          <p:spPr>
            <a:xfrm>
              <a:off x="3200400" y="3353040"/>
              <a:ext cx="2666880" cy="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3" name="Line 7"/>
            <p:cNvSpPr/>
            <p:nvPr/>
          </p:nvSpPr>
          <p:spPr>
            <a:xfrm>
              <a:off x="4572000" y="3353040"/>
              <a:ext cx="0" cy="152388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4" name="Line 8"/>
            <p:cNvSpPr/>
            <p:nvPr/>
          </p:nvSpPr>
          <p:spPr>
            <a:xfrm>
              <a:off x="3429000" y="4876920"/>
              <a:ext cx="0" cy="152424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5" name="Line 9"/>
            <p:cNvSpPr/>
            <p:nvPr/>
          </p:nvSpPr>
          <p:spPr>
            <a:xfrm>
              <a:off x="5638680" y="4876920"/>
              <a:ext cx="0" cy="1524240"/>
            </a:xfrm>
            <a:prstGeom prst="line">
              <a:avLst/>
            </a:prstGeom>
            <a:ln w="9360">
              <a:solidFill>
                <a:srgbClr val="ffce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6" name="Text Box 10"/>
            <p:cNvSpPr/>
            <p:nvPr/>
          </p:nvSpPr>
          <p:spPr>
            <a:xfrm>
              <a:off x="3886200" y="297216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7" name="Text Box 11"/>
            <p:cNvSpPr/>
            <p:nvPr/>
          </p:nvSpPr>
          <p:spPr>
            <a:xfrm>
              <a:off x="609588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8" name="Text Box 12"/>
            <p:cNvSpPr/>
            <p:nvPr/>
          </p:nvSpPr>
          <p:spPr>
            <a:xfrm>
              <a:off x="4952880" y="44960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19" name="Text Box 13"/>
            <p:cNvSpPr/>
            <p:nvPr/>
          </p:nvSpPr>
          <p:spPr>
            <a:xfrm>
              <a:off x="2819520" y="4496040"/>
              <a:ext cx="144756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0" name="Text Box 14"/>
            <p:cNvSpPr/>
            <p:nvPr/>
          </p:nvSpPr>
          <p:spPr>
            <a:xfrm>
              <a:off x="182880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21" name="Text Box 15"/>
            <p:cNvSpPr/>
            <p:nvPr/>
          </p:nvSpPr>
          <p:spPr>
            <a:xfrm>
              <a:off x="3886200" y="6096240"/>
              <a:ext cx="1447920" cy="337320"/>
            </a:xfrm>
            <a:prstGeom prst="rect">
              <a:avLst/>
            </a:prstGeom>
            <a:gradFill rotWithShape="0">
              <a:gsLst>
                <a:gs pos="0">
                  <a:srgbClr val="ffff78"/>
                </a:gs>
                <a:gs pos="100000">
                  <a:srgbClr val="ffffd7"/>
                </a:gs>
              </a:gsLst>
              <a:lin ang="16200000"/>
            </a:gradFill>
            <a:ln w="9360">
              <a:solidFill>
                <a:srgbClr val="ffce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6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22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head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graph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diagram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21"/>
          <p:cNvSpPr/>
          <p:nvPr/>
        </p:nvSpPr>
        <p:spPr>
          <a:xfrm>
            <a:off x="3733920" y="533412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ap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ubheading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7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caption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7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D787-A8CC-4FDD-86F5-8F8211DEF2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iangle Trivia – Poe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630" name="Group 16"/>
          <p:cNvGrpSpPr/>
          <p:nvPr/>
        </p:nvGrpSpPr>
        <p:grpSpPr>
          <a:xfrm>
            <a:off x="1143000" y="1447920"/>
            <a:ext cx="6781680" cy="4955400"/>
            <a:chOff x="1143000" y="1447920"/>
            <a:chExt cx="6781680" cy="4955400"/>
          </a:xfrm>
        </p:grpSpPr>
        <p:sp>
          <p:nvSpPr>
            <p:cNvPr id="631" name="AutoShape 4"/>
            <p:cNvSpPr/>
            <p:nvPr/>
          </p:nvSpPr>
          <p:spPr>
            <a:xfrm>
              <a:off x="1143000" y="1447920"/>
              <a:ext cx="6781680" cy="4953240"/>
            </a:xfrm>
            <a:prstGeom prst="triangle">
              <a:avLst>
                <a:gd name="adj" fmla="val 50000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2" name="Line 5"/>
            <p:cNvSpPr/>
            <p:nvPr/>
          </p:nvSpPr>
          <p:spPr>
            <a:xfrm>
              <a:off x="2209680" y="48769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3" name="Line 6"/>
            <p:cNvSpPr/>
            <p:nvPr/>
          </p:nvSpPr>
          <p:spPr>
            <a:xfrm>
              <a:off x="3200400" y="3353040"/>
              <a:ext cx="266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4" name="Line 7"/>
            <p:cNvSpPr/>
            <p:nvPr/>
          </p:nvSpPr>
          <p:spPr>
            <a:xfrm>
              <a:off x="4572000" y="335304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5" name="Line 8"/>
            <p:cNvSpPr/>
            <p:nvPr/>
          </p:nvSpPr>
          <p:spPr>
            <a:xfrm>
              <a:off x="3429000" y="487692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6" name="Line 9"/>
            <p:cNvSpPr/>
            <p:nvPr/>
          </p:nvSpPr>
          <p:spPr>
            <a:xfrm>
              <a:off x="5638680" y="487692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7" name="Text Box 10"/>
            <p:cNvSpPr/>
            <p:nvPr/>
          </p:nvSpPr>
          <p:spPr>
            <a:xfrm>
              <a:off x="3886200" y="297216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8" name="Text Box 11"/>
            <p:cNvSpPr/>
            <p:nvPr/>
          </p:nvSpPr>
          <p:spPr>
            <a:xfrm>
              <a:off x="6095880" y="609624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39" name="Text Box 12"/>
            <p:cNvSpPr/>
            <p:nvPr/>
          </p:nvSpPr>
          <p:spPr>
            <a:xfrm>
              <a:off x="4952880" y="449604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0" name="Text Box 13"/>
            <p:cNvSpPr/>
            <p:nvPr/>
          </p:nvSpPr>
          <p:spPr>
            <a:xfrm>
              <a:off x="2819520" y="4496040"/>
              <a:ext cx="144756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10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1" name="Text Box 14"/>
            <p:cNvSpPr/>
            <p:nvPr/>
          </p:nvSpPr>
          <p:spPr>
            <a:xfrm>
              <a:off x="1828800" y="609624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42" name="Text Box 15"/>
            <p:cNvSpPr/>
            <p:nvPr/>
          </p:nvSpPr>
          <p:spPr>
            <a:xfrm>
              <a:off x="3886200" y="6096240"/>
              <a:ext cx="1447920" cy="30708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50 Points</a:t>
              </a:r>
              <a:endParaRPr b="0" lang="en-US" sz="14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643" name="Text Box 17"/>
          <p:cNvSpPr/>
          <p:nvPr/>
        </p:nvSpPr>
        <p:spPr>
          <a:xfrm>
            <a:off x="2895480" y="3733920"/>
            <a:ext cx="1752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imil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Text Box 18"/>
          <p:cNvSpPr/>
          <p:nvPr/>
        </p:nvSpPr>
        <p:spPr>
          <a:xfrm>
            <a:off x="2057400" y="5334120"/>
            <a:ext cx="1447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peake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20"/>
          <p:cNvSpPr/>
          <p:nvPr/>
        </p:nvSpPr>
        <p:spPr>
          <a:xfrm>
            <a:off x="3733920" y="25909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stanza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6" name="Text Box 21"/>
          <p:cNvSpPr/>
          <p:nvPr/>
        </p:nvSpPr>
        <p:spPr>
          <a:xfrm>
            <a:off x="3733920" y="5334120"/>
            <a:ext cx="1752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poet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7" name="Text Box 22"/>
          <p:cNvSpPr/>
          <p:nvPr/>
        </p:nvSpPr>
        <p:spPr>
          <a:xfrm>
            <a:off x="4495680" y="3733920"/>
            <a:ext cx="1828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metaphor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21"/>
          <p:cNvSpPr/>
          <p:nvPr/>
        </p:nvSpPr>
        <p:spPr>
          <a:xfrm>
            <a:off x="5562720" y="5334120"/>
            <a:ext cx="1981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Kristen ITC"/>
              </a:rPr>
              <a:t>rhyme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9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4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9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EOG Reading Comprehension Test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4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Assesses NCSCO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mic Sans MS"/>
              </a:rPr>
              <a:t>(reading comprehensio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Uses the North Carolina Thinking Skills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Comic Sans MS"/>
              </a:rPr>
              <a:t>Requires students to read selections from a variety of text type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AD64-1998-4A22-A94D-C17DBEB1F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3" name="Rectangle 3"/>
          <p:cNvSpPr/>
          <p:nvPr/>
        </p:nvSpPr>
        <p:spPr>
          <a:xfrm>
            <a:off x="1303200" y="770040"/>
            <a:ext cx="779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igsaw Book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Slide Number Placeholder 3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FCB3D-341F-4192-949A-883C315CFE69}" type="slidenum">
              <a:rPr b="0" lang="en-US" sz="1400" spc="-1" strike="noStrike">
                <a:solidFill>
                  <a:srgbClr val="1c1c1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Your students will be ready for the EOG!!!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53" name="Content Placeholder 4" descr="dogs leaping.JPG"/>
          <p:cNvPicPr/>
          <p:nvPr/>
        </p:nvPicPr>
        <p:blipFill>
          <a:blip r:embed="rId1"/>
          <a:stretch/>
        </p:blipFill>
        <p:spPr>
          <a:xfrm>
            <a:off x="2325600" y="201780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54" name="Slide Number Placeholder 3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DA236-97C6-4251-ADAC-0B97F36E0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lease Visit Our Web Pag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ww.ncpublicschools.org/ accountability/tes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ww.ncpublicschools.org/ curriculu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6BF29-BD3A-4028-82A7-832374122F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7794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Comic Sans MS"/>
              </a:rPr>
              <a:t>NC End-of Grade Test in Reading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Asks students t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Apply reading strateg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Define key vocabulary by examining con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Organize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D50F-C908-4C99-ACE0-27690B8E0A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3T18:01:39Z</dcterms:created>
  <dc:creator>North Carolina</dc:creator>
  <dc:description/>
  <dc:language>en-US</dc:language>
  <cp:lastModifiedBy>kharrell</cp:lastModifiedBy>
  <cp:lastPrinted>2002-12-31T20:55:05Z</cp:lastPrinted>
  <dcterms:modified xsi:type="dcterms:W3CDTF">2011-03-03T03:50:07Z</dcterms:modified>
  <cp:revision>44</cp:revision>
  <dc:subject/>
  <dc:title>Grades 3-5  EOG Reading  Comprehension Test: Update and Instructional  Implications</dc:title>
</cp:coreProperties>
</file>